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F523B-CBB1-48F9-BA0B-D6BF1A8E8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0EA89-0F8C-4831-8E57-8CB5AAA0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ADE30-B74A-4EE5-BC45-C1EAB21AF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4905B-2D83-4668-973E-ACCC06A37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7FF8-6DD4-4041-AEF6-55561248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4764-01E5-4F3C-BD95-724E8297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D2105-CE4A-4423-B620-82621055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D99B9-7152-4168-B5AD-C788572CE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0A1C-5548-4530-AFF1-BCDF6B95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45B4-B657-4EDB-8534-C64E1071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CB1F-023B-4603-BEBC-FBA51025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5C1E-5357-49CD-BDE3-939932AEB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4594-A565-4A14-9410-01DA42B4B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UMAYUN’S TOMB</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Humayun Tomb, Humayun Tomb historical, Humayun Tomb travel, Humayun Tomb tourism, Humayun Tomb Historical Place"/>
          <p:cNvPicPr/>
          <p:nvPr/>
        </p:nvPicPr>
        <p:blipFill>
          <a:blip r:embed="rId2"/>
          <a:stretch/>
        </p:blipFill>
        <p:spPr>
          <a:xfrm rot="19525200">
            <a:off x="0" y="-609480"/>
            <a:ext cx="3581280" cy="3089160"/>
          </a:xfrm>
          <a:prstGeom prst="rect">
            <a:avLst/>
          </a:prstGeom>
          <a:ln w="0">
            <a:noFill/>
          </a:ln>
        </p:spPr>
      </p:pic>
      <p:pic>
        <p:nvPicPr>
          <p:cNvPr id="44" name="" descr="Humayun Tomb, Humayun Tomb historical, Humayun Tomb travel, Humayun Tomb tourism, Humayun Tomb Historical Place"/>
          <p:cNvPicPr/>
          <p:nvPr/>
        </p:nvPicPr>
        <p:blipFill>
          <a:blip r:embed="rId3"/>
          <a:stretch/>
        </p:blipFill>
        <p:spPr>
          <a:xfrm rot="1800600">
            <a:off x="5028840" y="-914040"/>
            <a:ext cx="3125880" cy="3049560"/>
          </a:xfrm>
          <a:prstGeom prst="rect">
            <a:avLst/>
          </a:prstGeom>
          <a:ln w="0">
            <a:noFill/>
          </a:ln>
        </p:spPr>
      </p:pic>
      <p:pic>
        <p:nvPicPr>
          <p:cNvPr id="45" name="" descr=""/>
          <p:cNvPicPr/>
          <p:nvPr/>
        </p:nvPicPr>
        <p:blipFill>
          <a:blip r:embed="rId4"/>
          <a:stretch/>
        </p:blipFill>
        <p:spPr>
          <a:xfrm rot="2299800">
            <a:off x="6054480" y="2819160"/>
            <a:ext cx="3089160" cy="3678120"/>
          </a:xfrm>
          <a:prstGeom prst="rect">
            <a:avLst/>
          </a:prstGeom>
          <a:ln w="0">
            <a:noFill/>
          </a:ln>
        </p:spPr>
      </p:pic>
      <p:pic>
        <p:nvPicPr>
          <p:cNvPr id="46" name="" descr=""/>
          <p:cNvPicPr/>
          <p:nvPr/>
        </p:nvPicPr>
        <p:blipFill>
          <a:blip r:embed="rId5"/>
          <a:stretch/>
        </p:blipFill>
        <p:spPr>
          <a:xfrm rot="20434200">
            <a:off x="-380880" y="3504960"/>
            <a:ext cx="3114720" cy="2504880"/>
          </a:xfrm>
          <a:prstGeom prst="rect">
            <a:avLst/>
          </a:prstGeom>
          <a:ln w="0">
            <a:noFill/>
          </a:ln>
        </p:spPr>
      </p:pic>
      <p:pic>
        <p:nvPicPr>
          <p:cNvPr id="47" name="" descr=""/>
          <p:cNvPicPr/>
          <p:nvPr/>
        </p:nvPicPr>
        <p:blipFill>
          <a:blip r:embed="rId6"/>
          <a:stretch/>
        </p:blipFill>
        <p:spPr>
          <a:xfrm rot="1246200">
            <a:off x="2819520" y="3657600"/>
            <a:ext cx="28954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The Garden Tomb</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br>
              <a:rPr sz="2400"/>
            </a:br>
            <a:r>
              <a:rPr b="0" lang="en-US" sz="2400" spc="-1" strike="noStrike">
                <a:solidFill>
                  <a:srgbClr val="000000"/>
                </a:solidFill>
                <a:latin typeface="Arial"/>
              </a:rPr>
              <a:t>Humayun's tomb lies on the Mathura road near its crossing with the Lodi Road. High rubble-built walls enclose here a square garden divided initially into four large squares separated by causeways and channels, each square divided again into smaller squares by pathways ('Chaharbagh') as in a typical Mughal garden. The lofty mausoleum is located in the centre of the enclosure and rises from a podium faced with series of cells with arched openings. The central octagonal chamber containing the cenotaph is encompassed by octagonal chambers at the diagonals and arched lobbies on the sides, their openings closed with perforated scree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emphatic arches dominate each side, the central one being the highest. This plan is repeated on the second storey, and a 42.5m high double dome of marble surmounts the roof with pillared kiosks ('chhatris') placed around it. The structure is built with red sandstone, but white and black marble has been used to relieve the monotony, the latter largely in the bor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mous Humayun's Tomb of New Delhi signifies the first of the lots of monumental </a:t>
            </a:r>
            <a:r>
              <a:rPr b="1" lang="en-US" sz="2400" spc="-1" strike="noStrike">
                <a:solidFill>
                  <a:srgbClr val="000000"/>
                </a:solidFill>
                <a:latin typeface="Arial"/>
              </a:rPr>
              <a:t>Mughal architectural structures</a:t>
            </a:r>
            <a:r>
              <a:rPr b="0" lang="en-US" sz="2400" spc="-1" strike="noStrike">
                <a:solidFill>
                  <a:srgbClr val="000000"/>
                </a:solidFill>
                <a:latin typeface="Arial"/>
              </a:rPr>
              <a:t>. The Humayun's Tomb is one of the attractions in the </a:t>
            </a:r>
            <a:r>
              <a:rPr b="1" lang="en-US" sz="2400" spc="-1" strike="noStrike">
                <a:solidFill>
                  <a:srgbClr val="000000"/>
                </a:solidFill>
                <a:latin typeface="Arial"/>
              </a:rPr>
              <a:t>progression</a:t>
            </a:r>
            <a:r>
              <a:rPr b="0" lang="en-US" sz="2400" spc="-1" strike="noStrike">
                <a:solidFill>
                  <a:srgbClr val="000000"/>
                </a:solidFill>
                <a:latin typeface="Arial"/>
              </a:rPr>
              <a:t> of </a:t>
            </a:r>
            <a:r>
              <a:rPr b="1" lang="en-US" sz="2400" spc="-1" strike="noStrike">
                <a:solidFill>
                  <a:srgbClr val="000000"/>
                </a:solidFill>
                <a:latin typeface="Arial"/>
              </a:rPr>
              <a:t>majestic architecture</a:t>
            </a:r>
            <a:r>
              <a:rPr b="0" lang="en-US" sz="2400" spc="-1" strike="noStrike">
                <a:solidFill>
                  <a:srgbClr val="000000"/>
                </a:solidFill>
                <a:latin typeface="Arial"/>
              </a:rPr>
              <a:t> of the Mughal in Indi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Around the Tomb</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Barber's Tomb Within the compound of Humayun's tomb to its southeast stands an impressive square tomb with a double-dome. It is not quite known who is buried inside it, although it is usually referred to as Barber's tomb. There are two graves inside it inscribed with verses from the Quran. One of the graves is inside it inscribed with verses from the Quran. One of the graves is inscribed with the figure 999, which may stand for the 'Hijra' year corresponding to 1590-91. Nila-Gumbad Outside the Humayun's tomb enclosure on the southeastern side stands an impressive tomb of plastered stone covered with a dome of blue tiles. Octagonal externally but square within, its ceiling is profusely decorated with painted and incised plaster. </a:t>
            </a:r>
            <a:endParaRPr b="0" lang="en-US" sz="2400" spc="-1" strike="noStrike">
              <a:solidFill>
                <a:srgbClr val="000000"/>
              </a:solidFill>
              <a:latin typeface="Arial"/>
            </a:endParaRPr>
          </a:p>
        </p:txBody>
      </p:sp>
      <p:pic>
        <p:nvPicPr>
          <p:cNvPr id="54" name="" descr="Humayun Tomb, Humayun Tomb historical, Humayun Tomb travel, Humayun Tomb tourism, Humayun Tomb Historical Place"/>
          <p:cNvPicPr/>
          <p:nvPr/>
        </p:nvPicPr>
        <p:blipFill>
          <a:blip r:embed="rId2"/>
          <a:stretch/>
        </p:blipFill>
        <p:spPr>
          <a:xfrm rot="20419800">
            <a:off x="-228240" y="0"/>
            <a:ext cx="2324160" cy="17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True Mughal Architec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br>
              <a:rPr sz="2400"/>
            </a:br>
            <a:r>
              <a:rPr b="0" lang="en-US" sz="2400" spc="-1" strike="noStrike">
                <a:solidFill>
                  <a:srgbClr val="000000"/>
                </a:solidFill>
                <a:latin typeface="Arial"/>
              </a:rPr>
              <a:t>The tomb was built by Humayun's senior widow Bega Begam, popularly known as Haji Begam, nine years after his death in 1565 according to some, but fourteen years according to the manuscript of an 18th century text. It is the first substantial example of the Mughal architecture, with high arches and double dome, which occurs here for the first time in India. Although some tombs had already been sited within gardens, it is also the first mature example of the idea of garden-tomb, which culminated in the Taj-Mahal at Agra.  </a:t>
            </a:r>
            <a:endParaRPr b="0" lang="en-US" sz="2400" spc="-1" strike="noStrike">
              <a:solidFill>
                <a:srgbClr val="000000"/>
              </a:solidFill>
              <a:latin typeface="Arial"/>
            </a:endParaRPr>
          </a:p>
        </p:txBody>
      </p:sp>
      <p:pic>
        <p:nvPicPr>
          <p:cNvPr id="57" name="" descr="Humayun Tomb, Humayun Tomb historical, Humayun Tomb travel, Humayun Tomb tourism, Humayun Tomb Historical Place"/>
          <p:cNvPicPr/>
          <p:nvPr/>
        </p:nvPicPr>
        <p:blipFill>
          <a:blip r:embed="rId2"/>
          <a:stretch/>
        </p:blipFill>
        <p:spPr>
          <a:xfrm>
            <a:off x="5791320" y="487692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ANK YOU </a:t>
            </a:r>
            <a:r>
              <a:rPr b="0" lang="en-US" sz="4400" spc="-1" strike="noStrike">
                <a:solidFill>
                  <a:srgbClr val="000000"/>
                </a:solidFill>
                <a:latin typeface="Wingdings"/>
                <a:ea typeface="Wingdings"/>
              </a:rPr>
              <a:t></a:t>
            </a:r>
            <a:r>
              <a:rPr b="0" lang="en-US" sz="4400" spc="-1" strike="noStrike">
                <a:solidFill>
                  <a:srgbClr val="000000"/>
                </a:solidFill>
                <a:latin typeface="comic"/>
              </a:rPr>
              <a:t>:</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1143000"/>
            <a:ext cx="883908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30:49Z</dcterms:created>
  <dc:creator>pc</dc:creator>
  <dc:description/>
  <dc:language>en-US</dc:language>
  <cp:lastModifiedBy>pc</cp:lastModifiedBy>
  <dcterms:modified xsi:type="dcterms:W3CDTF">2011-02-09T16:40:45Z</dcterms:modified>
  <cp:revision>2</cp:revision>
  <dc:subject/>
  <dc:title>HUMAYUN’S TOMB</dc:title>
</cp:coreProperties>
</file>